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025-1C96-4A57-B94C-5AF5B9D4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D09-5D91-4844-8F92-CC990C0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7BE-CD79-46CA-9197-65AA7850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141-72AC-49CB-8613-207ABE06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8E0-18A5-455A-89EF-E184580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847-01F8-4341-B052-CD4D80D1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7B5-48EB-48CD-B872-142BA583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7D6-F38D-42FC-9D09-A08EB0AE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B8F-71A7-4451-B1D9-2269DD64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3AA-7AF4-4C0E-8EFC-08F1C99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6494-7592-419A-BF7C-6C2F90E8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EB5-7AF6-47E7-A133-0D0DBDB3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212-6592-47AC-8B10-EE62F4A3F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120" y="447840"/>
            <a:ext cx="865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9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ll the leading newspapers _______the trade tal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tween China and the United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reported                 B. printed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ounced                 D.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. The train leaves at 6:00 pm.     So I have to be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ation_________5:40 pm at the la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until        B. after           C. by           D. 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204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864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81800" y="196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二）被动语态专项训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317880" y="1108080"/>
            <a:ext cx="9818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If city noises ____ from increas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____ sh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heard even at dinn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are not kept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have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do not kee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fifth generation computers, with artifi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ce, ________and perfected now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eveloped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have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are being develo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ill have been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9520" y="1057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5812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40" y="152280"/>
            <a:ext cx="9100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---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ports meet might be put off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Yes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all depends on the weathe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been told       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ve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'm told                 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tol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 need one more stamp before my collection 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completed                     B. complet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has been completed            D. is complet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Rainforests _____ and burned at such a speed that th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disappear from the earth in the near futu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cut                            B. are c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are being cut             D. had been c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ew suspension bridge ___ by the end of last mon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has been designed           B. had been desig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was designed                   D. would be de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10200" y="66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3800" y="1743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2460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34280" y="479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120" y="142920"/>
            <a:ext cx="8920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a pencil is partly in a glass of water, it looks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it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breaks                    B. has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were broken          D. had been brok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Great changes ___ in the city, and a lot of factories 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ve been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B. have taken place; have been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C. have taken place; hav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D. were taken place; were set up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That suit _______ over 60 dollar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A. had costed    B. costed         C. is costed       D. co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--- Look! Everything here is under constructio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--- What’s the pretty small house that _______ fo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A. is being built              B. has been bui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C. is built                        D. is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0200" y="523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1440" y="1743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4600" y="3876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432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1720" y="147600"/>
            <a:ext cx="8639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like the materia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--- Yes, it ______ very sof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A. is feeling    B. felt           C. feels       D. is fel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t is difficult for a foreigner _______ Chines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write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be written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ritt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. I have no more letters _______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．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ype       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ing       C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typed      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 Take care! Don’t drop the ink on your shirt, for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easily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A. won’t wash out              B. won’t be washed ou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isn’t washed out              D. isn’t washing out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body noticed the thief slip into the house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ghts happened to 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be put up                   B. give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 turned on          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8640" y="44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3760" y="1285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604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8160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4640" y="5172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800" y="0"/>
            <a:ext cx="88538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uters on the table ______ Professor Smith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longs               B. are belonged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C. belongs to            D. belong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  --- What do you think of the book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---Oh, excellent. It’s worth ______ a second tim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A. to read     B. to be read      C. reading  D. being rea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The squirrel was lucky that it just missed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tching                  B. to be c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being caught           D. to cat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This page needed _________ ag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being checked             B. 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C. to check                       D. to be checked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 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times, the boy still didn’t know how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the exercis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A. Having taught           B. Having been tau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C. taught                         D. Te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7800" y="-8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44120" y="1666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01520" y="2505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2520" y="38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36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27680" y="219240"/>
            <a:ext cx="82915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at time black people had no rights to voting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uthern states of Ame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believed that he could achieve to that goa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ceful actions,not by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refused to standing up for a white man and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ested by the pol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ing conditions for blacks were bad and t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little jobs to employ bl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3 he gave the speech“I have a dream”,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 inspired people to fight for equ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68580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5680" y="67644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1600200"/>
            <a:ext cx="5335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5680" y="1971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2057400"/>
            <a:ext cx="6094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276720"/>
            <a:ext cx="1219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9000" y="319104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95288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25360" y="456264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867280"/>
            <a:ext cx="53352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0" y="58579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5867280"/>
            <a:ext cx="6858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6000" y="152280"/>
            <a:ext cx="8677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on after his death,black people started enjoy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s they waited and fought for so l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struggled for the right to be free in thei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which god to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eople had to fight to be giving the right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e,choose where to live,study and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these groups have in common is that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 to be treated with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lready people wonder whether to f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rights of robots and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23880" y="91404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914400"/>
            <a:ext cx="4572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3960" y="6764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657600" y="205740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3049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0" y="1895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200400"/>
            <a:ext cx="990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66920" y="30384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41972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91840" y="4410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791320"/>
            <a:ext cx="1143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63080" y="578160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30492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150920" y="914400"/>
            <a:ext cx="266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某人关进监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发表演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当作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被法律所禁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而战，而奋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为…树立榜样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把…分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受到全国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诺贝尔和平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个时代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信仰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表明，吐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2200" y="8287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put…in  pris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41800" y="128592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a spee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2960" y="17431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treat…a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6840" y="22003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 forbidden b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6480" y="2581200"/>
            <a:ext cx="16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fight fo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70680" y="3038400"/>
            <a:ext cx="27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an examp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9280" y="34196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separate…from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40840" y="387684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ive sb. national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72120" y="433404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Nobel Peace Pr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41360" y="471492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of all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5040" y="517212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believ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61200" y="5553000"/>
            <a:ext cx="16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tart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93280" y="60102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宋体"/>
              </a:rPr>
              <a:t>give a voic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9440" y="804960"/>
            <a:ext cx="2417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携手；联手；合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获得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抵制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那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理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乍一看；初见之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00400" y="752400"/>
            <a:ext cx="17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in h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7600" y="12096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e set 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8280" y="159084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boycott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9120" y="204804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5360" y="3352680"/>
            <a:ext cx="25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 the first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18600" y="2886120"/>
            <a:ext cx="21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gardles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7840" y="251460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504720"/>
            <a:ext cx="13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4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-315360" y="1428840"/>
            <a:ext cx="9867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The new secretary is supposed to report to the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 soon as she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ill arrive                     B. arr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is going to arrive          D. is arr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The police found that the house________ and a lo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s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s broken into ; has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. had broken into; had been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been broken into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. had been broken into ; st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268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013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17080" y="219240"/>
            <a:ext cx="888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----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ave you moved into the new hou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t yet. The rooms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re being painted            B. are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re painted                      D. are being pa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. The students________ busily when Miss Brown w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 get a book she _________in the off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had written; left             B. were writing ; has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d written ; had left     D. were writing ; had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 When and where to build the new factory ________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is not decided                 B. ar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has not decided              D. hav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. ---Do you know our town at al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No , this is the first time I ____________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as         B. have been       C. came      D. am c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7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53800" y="364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00960" y="540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5720" y="371520"/>
            <a:ext cx="8993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murderer was brought in, with his hand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hind hi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being tied               B. having ti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to be tied                D. t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. I can hardly imagine Zhang Jian ________acros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nglish Channel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swim    B. to swim     C. swimming    D. to have sw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. John was made _______the truck for a week as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unish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to wash     B. washing     C. wash    D. to be w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0. “ Can’t you read?” Mary said_________to the no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ngrily pointing         B. and point ang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angrily pointed           D. and angrily po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350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2200" y="1971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15320" y="3343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29920" y="463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280" y="295200"/>
            <a:ext cx="89805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Jumping out of ________ airplane at ten thousand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s quite _______exciting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/; the        B. /; an       C. an; an          D. the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2. ----How was your recent visit to Qingda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---It was great. We visited some friends, and spen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days at the sea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few last sunny              B. last few su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ast sunny few                D. few sunny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3. I don’t think I’ll need any money but I’ll bring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t last       B. in case         C. once again     D.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. We’ll have to finish the job,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long it takes however     B. it takes however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. long however it takes     D. however long it 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1532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38440" y="2352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560" y="4029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4904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680" y="528480"/>
            <a:ext cx="88797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You should make it a rule to leave things________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 find them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when         B. where       C. then           D. t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6. Someone called me up in the middle of the night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 hung up ________I could answer the 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        B. since          C. before        D. u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7. Can the WTO live up to its name__________it d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t include a country that is home to one fifth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hole population of the worl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as long as       B. while        C. if        D. even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. The captain_________ an apology to the passeng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r the delay caused by bad wea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. made          B. said            C. put        D.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01160" y="447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53200" y="2276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4840" y="3038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0400" y="479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41Z</dcterms:modified>
  <cp:revision>8</cp:revision>
  <dc:subject/>
  <dc:title>PowerPoint Presentation</dc:title>
</cp:coreProperties>
</file>